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5920" y="771480"/>
            <a:ext cx="5305320" cy="37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128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91AA-0D1B-4723-B0B0-A4AEBB5489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85128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3A94-FFFF-4E45-AE35-4703A905A27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5128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770040" y="744480"/>
            <a:ext cx="5265720" cy="372276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jszucs@vati.hu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11283840" cy="7997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39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Hazai társfinanszírozási támogatási szerződés megkötésének folyamata</a:t>
            </a:r>
            <a:br>
              <a:rPr sz="40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3712680"/>
            <a:ext cx="11315880" cy="979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Szűcs Júl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1600" spc="-1" strike="noStrike">
                <a:solidFill>
                  <a:srgbClr val="006666"/>
                </a:solidFill>
                <a:latin typeface="Calibri"/>
              </a:rPr>
              <a:t>Európai Együttműködési Programok Igazgatósá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600" spc="-1" strike="noStrike">
                <a:solidFill>
                  <a:srgbClr val="006666"/>
                </a:solidFill>
                <a:latin typeface="Calibri"/>
              </a:rPr>
              <a:t>Központi Ellenőrzési Osztál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Partneri szeminárium magyar partnerek részé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Budapest, 2012. október 1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usk_logo_hu"/>
          <p:cNvPicPr/>
          <p:nvPr/>
        </p:nvPicPr>
        <p:blipFill>
          <a:blip r:embed="rId3"/>
          <a:stretch/>
        </p:blipFill>
        <p:spPr>
          <a:xfrm>
            <a:off x="7026120" y="184320"/>
            <a:ext cx="40672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Köszönöm a figyelmet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Szűcs Júl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Programkoordiná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E-mail: </a:t>
            </a:r>
            <a:r>
              <a:rPr b="1" lang="hu-H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jszucs@vati.hu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Telefon: (1) 224-324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7040" y="544680"/>
            <a:ext cx="10785600" cy="792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Társfinanszírozá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479600"/>
            <a:ext cx="10125000" cy="5302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160/2009. (VIII. 3) Korm. rendelet 19. §, 23-27. 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Központi költségvetési támogatás – további pályáztatás nélkü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Projektrész teljes elszámolható költségének 10 vagy 15%-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Szerződéskötés a nyertes projektek hazai partnerei és a VÁTI Nonprofit Kft. közöt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Kifizetés: teljes összege előlegként euróban, a szerződés megkötésétől számított 30 napon belü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7040" y="1120680"/>
            <a:ext cx="10785600" cy="936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társfinanszírozási szerződés megkötésének alapvető feltétele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2055600"/>
            <a:ext cx="10125000" cy="4725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a közösségi támogatási szerződés megkötése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partnerségi megállapodás aláírása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a Nemzeti Hatóság részéről a hazai partner által megvalósított projektrészre vonatkozó kötelezettségvállalási nyilatkozat kiadás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5760" y="255600"/>
            <a:ext cx="9617040" cy="1224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Benyújtandó dokumentumok 1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320" y="1696680"/>
            <a:ext cx="10729800" cy="4753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Subsidy Contrac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Partnership Agreement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Application Form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aláíróinak aláírási címpéldányai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vezet létrejöttét és működését tanúsító okira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yilatkozat a szervezet adatairól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yilatkozat a hazai partner magyarországi bankszámláiról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hatalmazó levelek beszedési megbízásra (vagy más, rendeletben meghatározott biztosíték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nyilatkozat a 160/2009. (VIII.3) Kormányrendelet 19. § (12) bekezdés c) pontja alapján az önkormányzatok biztosítéknyújtási kötelezettség alóli mentességéről (amennyiben releváns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nyilatkozat a 368/2011. (XII. 31.) Korm. rendelet 72. § (2) bekezdése alapján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5760" y="32832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Benyújtandó dokumentumok 2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8320" y="1697040"/>
            <a:ext cx="9621720" cy="5013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ÁFA nyilatkozat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nyilatkozat a 160/2009. (VIII.3) Kormányrendelet 21. § (4) bekezdése alapján a közösségi értékhatárt elérő vagy azt meghaladó értékű közbeszerzések tervezéséről 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használói szabályzat az IMIR 2007-2013 Monitoring és Információs Rendszer Front Office felületének használatához, amelyen keresztül a partneri jelentések kerülnek benyújtásra 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hozzájáruló nyilatkozat személyes adat kezeléséhez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rojektrész tevékenységeinek leírása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érelem közösségi hozzájárulás megelőlegezéséhez - a 160/2009. (VIII. 3.) Korm. rendelet 27/A. szakasza értelmében jogosult szervezetek esetéb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3400" y="90504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ERFA támogatás megelőlegezés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3400" y="191268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4000"/>
          </a:bodyPr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160/2009. (VIII. 3.) Korm. rendelet 27/A. szakasza alapjá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érelem benyújtása szükséges, melynek feltétele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artner nem központi költségvetési szerv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rojektrész költségvetése eléri vagy meghaladja a 550.000 EUR-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cc0000"/>
                </a:solidFill>
                <a:uFillTx/>
                <a:latin typeface="Calibri"/>
              </a:rPr>
              <a:t>VA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artner Megyei Intézményfenntartó Központ vagy Regionális Fejlesztési Ügynökség függetlenül a projektrész költségvetésének összegétő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ctr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A nemzeti kontrollerek által kiküldött tájékoztató tartalmazza a megelőlegezéssel kapcsolatos információkat, valamint a kérelem elektronikusan is csatolásra kerül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49240" y="328680"/>
            <a:ext cx="9617040" cy="792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Biztosítékok kör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4320" y="1263240"/>
            <a:ext cx="10297800" cy="5761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hatalmazó levélen alapuló beszedési megbízás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biztosítási szerződés alapján kiállított, a készfizető kezességvállalását tartalmazó kötelezvény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garanciabiztosítási szerződés alapján kiállított kötelezvény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bankgaranci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em köteles biztosítékot nyújtani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központi költségvetési szerv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helyi önkormányzat, a helyi kisebbségi önkormányzat, a többcélú kistérségi társulás, az önkormányzatok egyéb társulása, h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a) a támogatás teljes egészében önként vállalt helyi közügy megoldását vagy önkormányzati kötelező feladat ellátását szolgálja, va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b) a fejlesztés tárgya vagy a fejlesztés eredményeként létrejövő vagyontárgy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önkormányzati törzsvagyon, vagy törzsvagyonná váli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A szerződés megkötésének menet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3040" y="1623960"/>
            <a:ext cx="9621720" cy="4942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8000"/>
          </a:bodyPr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kötéshez szükséges dokumentumok benyújtása az értesítőlevél átvételétől számított </a:t>
            </a:r>
            <a:r>
              <a:rPr b="1" lang="hu-HU" sz="2400" spc="-1" strike="noStrike" u="sng">
                <a:solidFill>
                  <a:srgbClr val="cc0000"/>
                </a:solidFill>
                <a:uFillTx/>
                <a:latin typeface="Calibri"/>
              </a:rPr>
              <a:t>vagy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az aláírt Főszerződés, Partnerségi Megállapodás kézhezvételét követő 10 napon belü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gyeztetés a VÁTI Nonprofit Kft. kijelölt kapcsolattartójáv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Dokumentumok teljességének, megfelelőségének ellenőrzése, szükség esetén hiánypótlá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ötelezettségvállalási nyilatkozat kiállítása az NH részéről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tervezet összeállítása, ellenőrzé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megküldése </a:t>
            </a:r>
            <a:r>
              <a:rPr b="1" lang="hu-HU" sz="2400" spc="-1" strike="noStrike" u="sng">
                <a:solidFill>
                  <a:srgbClr val="cc0000"/>
                </a:solidFill>
                <a:uFillTx/>
                <a:latin typeface="Calibri"/>
              </a:rPr>
              <a:t>3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példányban a hazai partner részére aláírás céljábó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aláírása EEPI főosztályvezetője és helyettese részérő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megkötése tényének rögzítése az IMIR 2007-2013-b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3400" y="8319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Társfinanszírozási szerződés módosítá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7325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4000"/>
          </a:bodyPr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1.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Egyszerű módosítás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pl.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       </a:t>
            </a: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- Kisebb átcsoportosítás a költségvetés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- Változás a bankszámlák adataiban (új számla bejelentése, régi megszűntetés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- Kapcsolattartó/aláíró személyében, adataiban változá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2.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Társfinanszírozási támogatási szerződésmódosítással járó változás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pl.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- projektrész teljes költségvetése változik (nő/csökke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- változik a projekt végrehajtás ütemezé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657760" y="1552680"/>
            <a:ext cx="5272200" cy="6049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SzucsJulia</cp:lastModifiedBy>
  <dcterms:modified xsi:type="dcterms:W3CDTF">2012-10-18T06:58:44Z</dcterms:modified>
  <cp:revision>180</cp:revision>
  <dc:subject/>
  <dc:title>1. dia</dc:title>
</cp:coreProperties>
</file>